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0AA-B933-4639-B4E4-6E6097FF727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CB3-51C4-4086-8D8A-11BEFCEEF5CA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E977-4F47-4280-96D5-76E69F6E2635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0AF8-E56A-4680-9B45-A319C7D941DB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C0E-B137-4CE4-B5F6-0E3A3B00557F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A3C-B7D0-4608-B317-2E68A12C5A7A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1B59-7941-43C3-813B-DCD532EFA834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A05-1C0D-4556-ADFF-0867C987165E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65AB-EF26-4C51-A8F5-8E5880990CAD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EDD-2F03-4415-890E-A6124D57B1F9}" type="slidenum">
              <a:rPr b="0" lang="en-A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0D2-E288-4825-925C-71E372F2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99F-3699-4D18-AD84-D50B9594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2C6-02A4-4AD4-B874-FBD784AA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DEC-7A09-458C-B894-235DE1CD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484-6AE2-4210-95DC-BC3DA822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7E61-9815-450C-A075-AF8FA3C0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18EF-4763-4A7D-AB34-0EBC505C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5B7A-6A6D-4567-8A97-658D03C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2280-E0A5-4AC0-B224-33EEB57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9313-1DDF-47C1-8361-A21D242A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5DAD-5495-4E95-8971-6F84DDE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9FC-A049-4963-8813-D13E64BC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9BF5-357A-4608-B48B-5CD8E5E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0B16-5512-4A1A-9D5A-BD291E6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28CD-8E35-46FC-BD85-0271311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FCA5-D6AF-4AB4-A64E-82BB3AB8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D115-E33A-4A7F-8D9E-E358F64B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1BB-23DD-4539-A672-CE6F4BF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AF5-1D6C-445A-82FE-49742006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50B-A13A-47EA-9401-E32B91B7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AA2-A299-4C5B-B737-74943BCD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BC2-0404-422D-929F-14F428B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4E3-B2E7-4D1E-9892-36E4AD3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636-45A5-448C-B7CC-2DA2518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99F-A344-4231-B00C-4EB118F350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1941-6800-401F-813A-D7476261F4F0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f8f8"/>
                </a:solidFill>
                <a:latin typeface="Tahoma"/>
              </a:rPr>
              <a:t>KOR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THE COLD WAR BEYOND EUROP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COST IN HUMAN LIF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685800" y="1754280"/>
          <a:ext cx="777240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4280"/>
                    <a:ext cx="777240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y 1950 had Containment worked??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ost Americans agreed with containing communism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ome wanted a more aggressive policy like MacArthu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ore alliances were set up that were anti-Communi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KOREAN W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http://korea50.army.mil/graphics/soldier_comforting.jpg"/>
          <p:cNvPicPr/>
          <p:nvPr/>
        </p:nvPicPr>
        <p:blipFill>
          <a:blip r:embed="rId1"/>
          <a:stretch/>
        </p:blipFill>
        <p:spPr>
          <a:xfrm>
            <a:off x="1600200" y="1071720"/>
            <a:ext cx="4952880" cy="367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80880" y="48006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A grief stricken American infantryman whose buddy has been killed in action is comforted by another soldier. In the background a corpsman methodically fills out casualty tags, Haktong-ni area, Korea. August 28, 1950. Sfc. Al Chang. (Army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http://www.koreanwar.org/html/maps/map1_full.jpg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609480" y="45720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LIN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93640" y="1260360"/>
            <a:ext cx="79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1945 – Korea controlled by Japa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Soviets occupied the NORTH, America the SOUT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The two halves were divided  by the 38</a:t>
            </a:r>
            <a:r>
              <a:rPr b="0" lang="en-GB" sz="2800" spc="-1" strike="noStrike" baseline="30000">
                <a:solidFill>
                  <a:srgbClr val="f8f8f8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Parall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1947 – elections held in the South supported by the US; The North had its own govt. backed by the Soviet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Each government claimed to be the rightful rulers of Kore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8f8f8"/>
                </a:solidFill>
                <a:latin typeface="Times New Roman"/>
              </a:rPr>
              <a:t>Each side was supported by the respective superpower even though they withdrew troops in 1948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62120" y="1600200"/>
            <a:ext cx="7696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49 – China became Communist – supported N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0 – N Korea invaded S Korea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Sept 1950 – UN troops into S Korea at INCH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N Koreans pushed back into N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Oct 1950 Chinese invaded N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UN troops pushed back to S Ko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0-51 – STALEMATE around 38</a:t>
            </a:r>
            <a:r>
              <a:rPr b="0" lang="en-GB" sz="2400" spc="-1" strike="noStrike" baseline="30000">
                <a:solidFill>
                  <a:srgbClr val="f8f8f8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Parall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April 1951 – MacArthur removed from position – replaced by General Omar Bradle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609480" y="45720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LIN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609480" y="457200"/>
            <a:ext cx="22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MELIN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38080" y="14479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Fighting continued until 195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2 – Truman replaced by Eisenhow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1953 – Stalin di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8f8f8"/>
                </a:solidFill>
                <a:latin typeface="Times New Roman"/>
              </a:rPr>
              <a:t>July 1953 - Armistice signe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380880" y="571680"/>
          <a:ext cx="853452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71680"/>
                    <a:ext cx="853452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Tahoma"/>
              </a:rPr>
              <a:t>The Key Play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Truma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Syngman Rhee – SK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U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MacArthu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Bradle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76320">
            <a:solidFill>
              <a:srgbClr val="f8f8f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Kim Il Sung - NK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Mao Tse Tu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Tahoma"/>
              </a:rPr>
              <a:t>Stali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WHO WON???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 KOREA REMAINED ‘FREE’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Containment had work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Korea badly damag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The human co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till two separate states toda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Still US troops in Kore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2:24:45Z</dcterms:created>
  <dc:creator>DCrowe</dc:creator>
  <dc:description/>
  <dc:language>en-US</dc:language>
  <cp:lastModifiedBy>SHCMS</cp:lastModifiedBy>
  <dcterms:modified xsi:type="dcterms:W3CDTF">2010-03-02T01:40:26Z</dcterms:modified>
  <cp:revision>13</cp:revision>
  <dc:subject/>
  <dc:title>THE KOREAN WAR</dc:title>
</cp:coreProperties>
</file>